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419-AF57-475C-A168-5CFA4EC3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282-18F2-4B50-9390-6E7FCC6A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524-9EA4-4DFF-9C7A-E33CA709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33B-9B44-49A9-B170-3435B34A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63C-D2D2-4807-AB4E-EAAA762D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E8E-59D7-42F7-92B6-9C775E68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62D-5D50-4189-A106-0F19CC0D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C2C-DBB7-41E8-BB87-CCDE622A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306-7A7D-4D52-9B61-5D4D989E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259-C1D4-46DF-8BCC-5D2025E8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45C-CE6A-44C8-B8EE-4F9138E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DC7-6074-4772-855E-3FF4E88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5EE5-B4CD-404D-AB68-FAA3113B2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tumblr.com/photo/1280/food-pr0n/17526533602/1/tumblr_lqn1sk044n1qes1zr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www.tumblr.com/photo/1280/food-pr0n/15374860316/1/tumblr_lwrmgbVcKL1r25qir" TargetMode="External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2.bp.blogspot.com/-hjIjuORCqdY/Tmyhdq01qNI/AAAAAAAAAgU/dP9wNvQKH2k/s1600/Chocolate-Mug-Milkshake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524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andara"/>
              </a:rPr>
              <a:t>Las Comid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on Cara Acke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0600" y="1838160"/>
            <a:ext cx="47628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1f3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0320" y="365688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anqueques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4419720"/>
            <a:ext cx="3467160" cy="2309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28800" y="41140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ollos de c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3581640" cy="2384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94000" y="47998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3143160" cy="229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562720" y="1219320"/>
            <a:ext cx="3381120" cy="2255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9680" y="297108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ándwich de huevo y q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6440" y="6171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hori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657600" y="251460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8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almuerz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543480" cy="2678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9280" y="11422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ándwich de pep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3619800" cy="2417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774560" y="3047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Chicken salad sandwich on a croissant, with a side of pasta salad"/>
          <p:cNvPicPr/>
          <p:nvPr/>
        </p:nvPicPr>
        <p:blipFill>
          <a:blip r:embed="rId3"/>
          <a:stretch/>
        </p:blipFill>
        <p:spPr>
          <a:xfrm>
            <a:off x="228600" y="4343400"/>
            <a:ext cx="3543480" cy="2360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80" y="4419000"/>
            <a:ext cx="54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ándwich de pollo ensalada de ensalada de p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62720" y="4343400"/>
            <a:ext cx="3371760" cy="2244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380840" y="4037760"/>
            <a:ext cx="47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ándwich de nutella y crema de cacah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276720" y="1447920"/>
            <a:ext cx="2533680" cy="253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042080" y="34282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2760" y="61714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cer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60680" y="4952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in-my-mouth:&#10;&#10;mozzarella sticks&#10;"/>
          <p:cNvPicPr/>
          <p:nvPr/>
        </p:nvPicPr>
        <p:blipFill>
          <a:blip r:embed="rId2"/>
          <a:stretch/>
        </p:blipFill>
        <p:spPr>
          <a:xfrm>
            <a:off x="304920" y="1143000"/>
            <a:ext cx="3390840" cy="2543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2280" y="3809880"/>
            <a:ext cx="3576600" cy="2824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172200" y="2362320"/>
            <a:ext cx="2755800" cy="426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715000" y="1143000"/>
            <a:ext cx="3295800" cy="2187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165800" y="61714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uraz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42480" y="28188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ep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2080" y="137160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mozzarella p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f3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 la cena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47040" y="388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ño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86400" y="4368960"/>
            <a:ext cx="3533760" cy="2355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143000"/>
            <a:ext cx="3619440" cy="2295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23280" y="2971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búfalo de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oohhhbaby:&#10;&#10;homemade lasagna&#10;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4343400"/>
            <a:ext cx="3467160" cy="2295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5360" y="39618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as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095880" y="1143000"/>
            <a:ext cx="2847960" cy="214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253560" y="319968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nsalada con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3200400" y="2590920"/>
            <a:ext cx="3076560" cy="2377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510360" y="51807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limón Sanpelleg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 me el postr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95280"/>
            <a:ext cx="2678400" cy="2895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46800" y="13708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hocolate ba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791320" y="3505320"/>
            <a:ext cx="3219480" cy="3047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47000" y="44190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gda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57200" y="4495680"/>
            <a:ext cx="2771640" cy="2081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56640" y="61714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baci bom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3133800" cy="2079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871240" y="289476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galletas de av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200400" y="2057400"/>
            <a:ext cx="236844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7680" y="5028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22800" y="6019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astel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28:08Z</dcterms:created>
  <dc:creator>ackermancar</dc:creator>
  <dc:description/>
  <dc:language>en-US</dc:language>
  <cp:lastModifiedBy>ackermancar</cp:lastModifiedBy>
  <dcterms:modified xsi:type="dcterms:W3CDTF">2012-04-05T14:00:06Z</dcterms:modified>
  <cp:revision>10</cp:revision>
  <dc:subject/>
  <dc:title>Las Comidas</dc:title>
</cp:coreProperties>
</file>